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42.png" ContentType="image/png"/>
  <Override PartName="/ppt/media/image24.png" ContentType="image/png"/>
  <Override PartName="/ppt/media/image11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22.jpeg" ContentType="image/jpeg"/>
  <Override PartName="/ppt/media/image10.jpeg" ContentType="image/jpeg"/>
  <Override PartName="/ppt/media/image5.png" ContentType="image/png"/>
  <Override PartName="/ppt/media/image30.png" ContentType="image/png"/>
  <Override PartName="/ppt/media/image29.jpeg" ContentType="image/jpeg"/>
  <Override PartName="/ppt/media/image1.jpeg" ContentType="image/jpeg"/>
  <Override PartName="/ppt/media/image35.jpeg" ContentType="image/jpeg"/>
  <Override PartName="/ppt/media/image23.png" ContentType="image/png"/>
  <Override PartName="/ppt/media/image13.jpeg" ContentType="image/jpeg"/>
  <Override PartName="/ppt/media/image40.jpeg" ContentType="image/jpeg"/>
  <Override PartName="/ppt/media/image31.png" ContentType="image/png"/>
  <Override PartName="/ppt/media/image32.jpeg" ContentType="image/jpeg"/>
  <Override PartName="/ppt/media/image33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37.png" ContentType="image/png"/>
  <Override PartName="/ppt/media/image41.png" ContentType="image/png"/>
  <Override PartName="/ppt/media/image9.jpeg" ContentType="image/jpeg"/>
  <Override PartName="/ppt/media/image3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6.png" ContentType="image/png"/>
  <Override PartName="/ppt/media/image3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E9C95-75BB-4D11-909D-F0903EFEFD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3F19E-391F-40A9-A948-D0E0A1F47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Date Placeholder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826B3-3877-49E1-9950-0AD50B9B61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Slide Number Placeholder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4308A-D0FE-4FF0-A7A3-73D739F9A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7293-46EB-4E28-B61F-BDE9E185F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F0EC-2B4D-4BA7-9B1B-BA4EFF6F3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6358-65BF-4DE0-8971-58EF2BF71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3919-6A00-4C89-8C6E-B8558FA47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1FBF2-B20C-4663-A3F5-3B63DEC6E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01379-77DB-40B6-BE98-CE984B80C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4F437-2FE0-4E4E-BE71-FACD63D1E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57F58-38B2-4667-91A1-0FA816164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092D2-D4D3-4A0D-9381-21ED962AE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2F891-125E-48CE-8B34-0F2EAE7A6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7AF29-3868-4572-890F-81C95AA1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E162-FA60-4650-A918-B01F7FBF6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42CCC-8C18-4F4A-9931-C98F2C14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D9E28-91E5-49BF-AED0-C7F2BBB5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D02ED-125F-479A-AEDE-349EC597D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0541D-6CE6-42CA-8D1E-E8F5FB8A7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91993-D047-4184-9B7D-508852DC0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8EB90-80B3-4027-8901-45CCBAEC6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6FCB8-A7E7-4025-8BD8-46C0246B3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43A8B-8696-4983-8ACB-90DF381C0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61AD3-ABDF-426A-896F-8CB0911C4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B5DEA-F55A-402D-867D-488E145C0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B210-91B6-4B75-8E19-3D2E4C34E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47984-1420-403E-B32B-D8727675A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BC94D-4625-4A49-A242-44C54A84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C808C-DC90-4A22-8246-9642D27D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F4506-5446-45DA-AD7F-D8799BAD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CBF18-3B4E-4F1A-87F6-1C5C91953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5C750-E677-4CC6-886F-3B8B99DCE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B229A-44E8-49B5-B5A8-9CF1F705F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2FFBE-EA8C-4581-B53B-7403490E9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386C8-45E5-4A70-A49A-FA46EB2E8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6C47B-D72C-4F25-ACC7-13B8A213A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634E-5087-46C1-AB22-DF5C31DDA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467C9-5C44-4A30-BD43-FB96EBDA8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E6390-3705-457C-9A45-EEEDE76C2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711EE-2E2F-462F-B3E2-303499F90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8F81C-EE67-4A37-BB33-7C9DFD09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093A2-0E4F-4AF4-9CE9-8F88FF53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51DAC-33C7-4E03-8F1C-DD41E06F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332CC-963B-4627-A980-4A84F8B15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17022-C826-4970-9F6A-809534910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43125-5218-459B-8B41-A5DB6F85F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4F56-D4DC-4DB7-A215-8774199E5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9AF9-663A-49AD-9B58-D2FF3DE7B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66AB-D420-4542-AD58-B321BB20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D54F-7BB3-4F59-AE5B-6BB2B7EB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49FB-27B3-4166-B0EA-01F2ABF2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8850A-706F-48F7-881A-3BA42715D2D8}" type="slidenum">
              <a:rPr b="1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B2A88-9499-4779-A0D0-07EA0F446704}" type="slidenum">
              <a:rPr b="1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146F3-781F-4945-9405-A11903E215D2}" type="slidenum">
              <a:rPr b="1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B7A1E-C6D2-4942-B1D3-2EB2030F7DDF}" type="slidenum">
              <a:rPr b="1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085400"/>
            <a:ext cx="82296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Chapter 7: Warm-Up 1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Is the plasma membrane symmetrical?  Why or why not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What types of substances cross the membrane the fastest? Why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Explain the concept of water potential. (Hint: Refer to Lab 1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The freeze-fracture method: revealed the structure of membrane’s interior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3" name="Content Placeholder 3" descr="07_04_FreezeFracture-L.jpg"/>
          <p:cNvPicPr/>
          <p:nvPr/>
        </p:nvPicPr>
        <p:blipFill>
          <a:blip r:embed="rId1"/>
          <a:stretch/>
        </p:blipFill>
        <p:spPr>
          <a:xfrm>
            <a:off x="2162160" y="1935000"/>
            <a:ext cx="481968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4617b"/>
                </a:solidFill>
                <a:latin typeface="Calibri"/>
              </a:rPr>
              <a:t>Fluid Mosaic Model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5" name="Content Placeholder 3" descr="07_03FluidMosaicModel-L.jpg"/>
          <p:cNvPicPr/>
          <p:nvPr/>
        </p:nvPicPr>
        <p:blipFill>
          <a:blip r:embed="rId1"/>
          <a:stretch/>
        </p:blipFill>
        <p:spPr>
          <a:xfrm>
            <a:off x="1149480" y="2185920"/>
            <a:ext cx="684504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6" descr="07_05PlasmaMembrane-L.jpg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8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4617b"/>
                </a:solidFill>
                <a:latin typeface="Calibri"/>
              </a:rPr>
              <a:t>Phospholipid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560" y="1687680"/>
            <a:ext cx="3809880" cy="46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ilay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0000"/>
                </a:solidFill>
                <a:uFillTx/>
                <a:latin typeface="Constantia"/>
              </a:rPr>
              <a:t>Amphipathic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= hydrophilic head, hydrophobic tai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ydrophobic barrier: keeps hydrophilic molecules ou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3" descr="07_02PhospholipidBilayer-L.jpg"/>
          <p:cNvPicPr/>
          <p:nvPr/>
        </p:nvPicPr>
        <p:blipFill>
          <a:blip r:embed="rId1"/>
          <a:stretch/>
        </p:blipFill>
        <p:spPr>
          <a:xfrm>
            <a:off x="4038480" y="1600200"/>
            <a:ext cx="48895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0432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4617b"/>
                </a:solidFill>
                <a:latin typeface="Calibri"/>
              </a:rPr>
              <a:t>Membrane fluidity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51920" y="1534680"/>
            <a:ext cx="4953240" cy="51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Low temp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phospholipids w/unsaturated tails (kinks prevent close packing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Cholesterol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resists changes by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mit fluidity at high temp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inder close packing at low temp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daptations: bacteria in hot springs (unusual lipids); winter wheat (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unsaturated phospholipid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2" name="Picture 4" descr="07_08MembraneFluidFactor-L.jpg"/>
          <p:cNvPicPr/>
          <p:nvPr/>
        </p:nvPicPr>
        <p:blipFill>
          <a:blip r:embed="rId1"/>
          <a:stretch/>
        </p:blipFill>
        <p:spPr>
          <a:xfrm>
            <a:off x="5105520" y="1887480"/>
            <a:ext cx="403848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125000"/>
            <a:ext cx="82296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Membrane Protein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563480"/>
            <a:ext cx="4040280" cy="685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4617b"/>
                </a:solidFill>
                <a:uFillTx/>
                <a:latin typeface="Constantia"/>
              </a:rPr>
              <a:t>Integral Protein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44720" y="1563480"/>
            <a:ext cx="4041720" cy="685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4617b"/>
                </a:solidFill>
                <a:uFillTx/>
                <a:latin typeface="Constantia"/>
              </a:rPr>
              <a:t>Peripheral Protein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6840" y="2172960"/>
            <a:ext cx="4040280" cy="46083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Embedde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in membran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termined by freeze fractu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ransmembrane with hydrophilic heads/tails and hydrophobic midd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644720" y="2172960"/>
            <a:ext cx="4041720" cy="46083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tracellular or cytoplasmic sides of membran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T embedd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eld in place by the cytoskeleton or EC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ovides stronger framewor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1031"/>
          <p:cNvSpPr/>
          <p:nvPr/>
        </p:nvSpPr>
        <p:spPr>
          <a:xfrm>
            <a:off x="838080" y="5943600"/>
            <a:ext cx="7848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gral &amp; Peripheral protei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Picture 1034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848360" cy="551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Title 1" descr=""/>
          <p:cNvPicPr/>
          <p:nvPr/>
        </p:nvPicPr>
        <p:blipFill>
          <a:blip r:embed="rId1"/>
          <a:stretch/>
        </p:blipFill>
        <p:spPr>
          <a:xfrm>
            <a:off x="225360" y="755640"/>
            <a:ext cx="8699400" cy="7747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07_09TransmembProtein-L.jpg"/>
          <p:cNvPicPr/>
          <p:nvPr/>
        </p:nvPicPr>
        <p:blipFill>
          <a:blip r:embed="rId2"/>
          <a:stretch/>
        </p:blipFill>
        <p:spPr>
          <a:xfrm>
            <a:off x="2286000" y="1595520"/>
            <a:ext cx="4038480" cy="4981320"/>
          </a:xfrm>
          <a:prstGeom prst="rect">
            <a:avLst/>
          </a:prstGeom>
          <a:ln w="0">
            <a:noFill/>
          </a:ln>
        </p:spPr>
      </p:pic>
      <p:sp>
        <p:nvSpPr>
          <p:cNvPr id="242" name="Right Arrow 8"/>
          <p:cNvSpPr/>
          <p:nvPr/>
        </p:nvSpPr>
        <p:spPr>
          <a:xfrm>
            <a:off x="2590920" y="3657600"/>
            <a:ext cx="2444760" cy="484200"/>
          </a:xfrm>
          <a:prstGeom prst="rightArrow">
            <a:avLst>
              <a:gd name="adj1" fmla="val 50000"/>
              <a:gd name="adj2" fmla="val 50047"/>
            </a:avLst>
          </a:prstGeom>
          <a:solidFill>
            <a:srgbClr val="c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ight Arrow 9"/>
          <p:cNvSpPr/>
          <p:nvPr/>
        </p:nvSpPr>
        <p:spPr>
          <a:xfrm rot="12025200">
            <a:off x="4976280" y="2985840"/>
            <a:ext cx="1919520" cy="485640"/>
          </a:xfrm>
          <a:prstGeom prst="rightArrow">
            <a:avLst>
              <a:gd name="adj1" fmla="val 50000"/>
              <a:gd name="adj2" fmla="val 49901"/>
            </a:avLst>
          </a:prstGeom>
          <a:solidFill>
            <a:srgbClr val="06900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ight Arrow 10"/>
          <p:cNvSpPr/>
          <p:nvPr/>
        </p:nvSpPr>
        <p:spPr>
          <a:xfrm rot="9754800">
            <a:off x="4981320" y="4576680"/>
            <a:ext cx="1931760" cy="486000"/>
          </a:xfrm>
          <a:prstGeom prst="rightArrow">
            <a:avLst>
              <a:gd name="adj1" fmla="val 50000"/>
              <a:gd name="adj2" fmla="val 49851"/>
            </a:avLst>
          </a:prstGeom>
          <a:solidFill>
            <a:srgbClr val="06900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Box 11"/>
          <p:cNvSpPr/>
          <p:nvPr/>
        </p:nvSpPr>
        <p:spPr>
          <a:xfrm>
            <a:off x="0" y="3429000"/>
            <a:ext cx="243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Hydrophobic interio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Box 12"/>
          <p:cNvSpPr/>
          <p:nvPr/>
        </p:nvSpPr>
        <p:spPr>
          <a:xfrm>
            <a:off x="6934320" y="3505320"/>
            <a:ext cx="243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9009"/>
                </a:solidFill>
                <a:latin typeface="Times New Roman"/>
              </a:rPr>
              <a:t>Hydrophilic end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3" descr="07_10_MembProteinFunction-L.jpg"/>
          <p:cNvPicPr/>
          <p:nvPr/>
        </p:nvPicPr>
        <p:blipFill>
          <a:blip r:embed="rId1"/>
          <a:stretch/>
        </p:blipFill>
        <p:spPr>
          <a:xfrm>
            <a:off x="2617920" y="274680"/>
            <a:ext cx="6449760" cy="6583320"/>
          </a:xfrm>
          <a:prstGeom prst="rect">
            <a:avLst/>
          </a:prstGeom>
          <a:ln w="0">
            <a:noFill/>
          </a:ln>
        </p:spPr>
      </p:pic>
      <p:sp>
        <p:nvSpPr>
          <p:cNvPr id="248" name="TextBox 4"/>
          <p:cNvSpPr/>
          <p:nvPr/>
        </p:nvSpPr>
        <p:spPr>
          <a:xfrm>
            <a:off x="0" y="2209680"/>
            <a:ext cx="2666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me functions of membrane protei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arbohydrat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876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Functio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cell-cell recognition; developing organism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lycolipids, glycoprotei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g. blood transfusions are type-specifi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1" name="Picture 10" descr=""/>
          <p:cNvPicPr/>
          <p:nvPr/>
        </p:nvPicPr>
        <p:blipFill>
          <a:blip r:embed="rId1"/>
          <a:stretch/>
        </p:blipFill>
        <p:spPr>
          <a:xfrm>
            <a:off x="1143000" y="3294000"/>
            <a:ext cx="678168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009800"/>
            <a:ext cx="8229600" cy="590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Chapter 7: Warm-Up 2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What are glycoproteins and glycolipids and what is their function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How d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nstantia"/>
              </a:rPr>
              <a:t>hydrophilic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substances cross the cell membrane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Why does water move through the bi-layer quickly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90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Synthesis and sidedness of membran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3" name="Picture 3" descr="07_12MembraneSynthesis-L.jpg"/>
          <p:cNvPicPr/>
          <p:nvPr/>
        </p:nvPicPr>
        <p:blipFill>
          <a:blip r:embed="rId1"/>
          <a:stretch/>
        </p:blipFill>
        <p:spPr>
          <a:xfrm>
            <a:off x="762120" y="990720"/>
            <a:ext cx="747396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elective Permeabilit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69009"/>
                </a:solidFill>
                <a:uFillTx/>
                <a:latin typeface="Constantia"/>
              </a:rPr>
              <a:t>Small molecules </a:t>
            </a:r>
            <a:r>
              <a:rPr b="0" lang="en-US" sz="2600" spc="-1" strike="noStrike">
                <a:solidFill>
                  <a:srgbClr val="069009"/>
                </a:solidFill>
                <a:latin typeface="Constantia"/>
              </a:rPr>
              <a:t>(polar or nonpolar) cross easily (hydrocarbons, hydrophobic molecules, CO</a:t>
            </a:r>
            <a:r>
              <a:rPr b="0" lang="en-US" sz="2600" spc="-1" strike="noStrike" baseline="-25000">
                <a:solidFill>
                  <a:srgbClr val="069009"/>
                </a:solidFill>
                <a:latin typeface="Constantia"/>
              </a:rPr>
              <a:t>2</a:t>
            </a:r>
            <a:r>
              <a:rPr b="0" lang="en-US" sz="2600" spc="-1" strike="noStrike">
                <a:solidFill>
                  <a:srgbClr val="069009"/>
                </a:solidFill>
                <a:latin typeface="Constantia"/>
              </a:rPr>
              <a:t>, O</a:t>
            </a:r>
            <a:r>
              <a:rPr b="0" lang="en-US" sz="2600" spc="-1" strike="noStrike" baseline="-25000">
                <a:solidFill>
                  <a:srgbClr val="069009"/>
                </a:solidFill>
                <a:latin typeface="Constantia"/>
              </a:rPr>
              <a:t>2</a:t>
            </a:r>
            <a:r>
              <a:rPr b="0" lang="en-US" sz="2600" spc="-1" strike="noStrike">
                <a:solidFill>
                  <a:srgbClr val="069009"/>
                </a:solidFill>
                <a:latin typeface="Constanti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Constantia"/>
              </a:rPr>
              <a:t>Hydrophobic core </a:t>
            </a:r>
            <a:r>
              <a:rPr b="1" i="1" lang="en-US" sz="2600" spc="-1" strike="noStrike">
                <a:solidFill>
                  <a:srgbClr val="c00000"/>
                </a:solidFill>
                <a:latin typeface="Constantia"/>
              </a:rPr>
              <a:t>prevents</a:t>
            </a:r>
            <a:r>
              <a:rPr b="0" lang="en-US" sz="2600" spc="-1" strike="noStrike">
                <a:solidFill>
                  <a:srgbClr val="c00000"/>
                </a:solidFill>
                <a:latin typeface="Constantia"/>
              </a:rPr>
              <a:t> passage of </a:t>
            </a:r>
            <a:r>
              <a:rPr b="0" lang="en-US" sz="2600" spc="-1" strike="noStrike" u="sng">
                <a:solidFill>
                  <a:srgbClr val="c00000"/>
                </a:solidFill>
                <a:uFillTx/>
                <a:latin typeface="Constantia"/>
              </a:rPr>
              <a:t>ions</a:t>
            </a:r>
            <a:r>
              <a:rPr b="0" lang="en-US" sz="2600" spc="-1" strike="noStrike">
                <a:solidFill>
                  <a:srgbClr val="c00000"/>
                </a:solidFill>
                <a:latin typeface="Constantia"/>
              </a:rPr>
              <a:t>, </a:t>
            </a:r>
            <a:r>
              <a:rPr b="0" lang="en-US" sz="2600" spc="-1" strike="noStrike" u="sng">
                <a:solidFill>
                  <a:srgbClr val="c00000"/>
                </a:solidFill>
                <a:uFillTx/>
                <a:latin typeface="Constantia"/>
              </a:rPr>
              <a:t>large polar molecule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assive Transpor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536840"/>
            <a:ext cx="82296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 ENERGY needed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Diffusion</a:t>
            </a:r>
            <a:r>
              <a:rPr b="0" lang="en-US" sz="26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0" i="1" lang="en-US" sz="2600" spc="-1" strike="noStrike">
                <a:solidFill>
                  <a:srgbClr val="002060"/>
                </a:solidFill>
                <a:latin typeface="Constantia"/>
              </a:rPr>
              <a:t>down</a:t>
            </a:r>
            <a:r>
              <a:rPr b="0" lang="en-US" sz="26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0" lang="en-US" sz="2600" spc="-1" strike="noStrike" u="sng">
                <a:solidFill>
                  <a:srgbClr val="55a839"/>
                </a:solidFill>
                <a:uFillTx/>
                <a:latin typeface="Constantia"/>
              </a:rPr>
              <a:t>concentration gradient</a:t>
            </a:r>
            <a:r>
              <a:rPr b="0" lang="en-US" sz="2600" spc="-1" strike="noStrike">
                <a:solidFill>
                  <a:srgbClr val="55a839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high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low concentratio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g. hydrocarbons, C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, 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, 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8" name="Picture 3" descr="07_13aDiffusionMembrane-L.jpg"/>
          <p:cNvPicPr/>
          <p:nvPr/>
        </p:nvPicPr>
        <p:blipFill>
          <a:blip r:embed="rId1"/>
          <a:stretch/>
        </p:blipFill>
        <p:spPr>
          <a:xfrm>
            <a:off x="1447920" y="3583080"/>
            <a:ext cx="640080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0" name="Content Placeholder 3" descr="07_13bDiffusionMembrane-L.jpg"/>
          <p:cNvPicPr/>
          <p:nvPr/>
        </p:nvPicPr>
        <p:blipFill>
          <a:blip r:embed="rId1"/>
          <a:stretch/>
        </p:blipFill>
        <p:spPr>
          <a:xfrm>
            <a:off x="457200" y="2111400"/>
            <a:ext cx="822960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Content Placeholder 3" descr="07_14Osmosis-L.jpg"/>
          <p:cNvPicPr/>
          <p:nvPr/>
        </p:nvPicPr>
        <p:blipFill>
          <a:blip r:embed="rId1"/>
          <a:stretch/>
        </p:blipFill>
        <p:spPr>
          <a:xfrm>
            <a:off x="2590920" y="290520"/>
            <a:ext cx="6172200" cy="6289560"/>
          </a:xfrm>
          <a:prstGeom prst="rect">
            <a:avLst/>
          </a:prstGeom>
          <a:ln w="0">
            <a:noFill/>
          </a:ln>
        </p:spPr>
      </p:pic>
      <p:pic>
        <p:nvPicPr>
          <p:cNvPr id="262" name="Title 5" descr=""/>
          <p:cNvPicPr/>
          <p:nvPr/>
        </p:nvPicPr>
        <p:blipFill>
          <a:blip r:embed="rId2"/>
          <a:stretch/>
        </p:blipFill>
        <p:spPr>
          <a:xfrm>
            <a:off x="407880" y="4022640"/>
            <a:ext cx="350532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Title 1" descr=""/>
          <p:cNvPicPr/>
          <p:nvPr/>
        </p:nvPicPr>
        <p:blipFill>
          <a:blip r:embed="rId1"/>
          <a:stretch/>
        </p:blipFill>
        <p:spPr>
          <a:xfrm>
            <a:off x="219240" y="30240"/>
            <a:ext cx="8662680" cy="1158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07_15WaterBalance-L.jpg"/>
          <p:cNvPicPr/>
          <p:nvPr/>
        </p:nvPicPr>
        <p:blipFill>
          <a:blip r:embed="rId2"/>
          <a:stretch/>
        </p:blipFill>
        <p:spPr>
          <a:xfrm>
            <a:off x="685800" y="1384200"/>
            <a:ext cx="793440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smoregul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6840" y="1612800"/>
            <a:ext cx="8458200" cy="17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trol solute &amp; water bala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Contractile vacuol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lang="ja-JP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ilge pump</a:t>
            </a:r>
            <a:r>
              <a:rPr b="0" lang="ja-JP" sz="2600" spc="-1" strike="noStrike">
                <a:solidFill>
                  <a:srgbClr val="000000"/>
                </a:solidFill>
                <a:latin typeface="Constantia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forces out fresh water as it enters by osmo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g. paramecium caudatum – freshwater protis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7" name="Picture 5" descr="07_16ContractileVacuole-L.jpg"/>
          <p:cNvPicPr/>
          <p:nvPr/>
        </p:nvPicPr>
        <p:blipFill>
          <a:blip r:embed="rId1"/>
          <a:stretch/>
        </p:blipFill>
        <p:spPr>
          <a:xfrm>
            <a:off x="1219320" y="3503520"/>
            <a:ext cx="6858000" cy="320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4" descr="07_UN01Summary_C3-L.jpg"/>
          <p:cNvPicPr/>
          <p:nvPr/>
        </p:nvPicPr>
        <p:blipFill>
          <a:blip r:embed="rId1"/>
          <a:stretch/>
        </p:blipFill>
        <p:spPr>
          <a:xfrm>
            <a:off x="4191120" y="2743200"/>
            <a:ext cx="4800600" cy="404028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acilitated Diffus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28600" y="1828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2060"/>
                </a:solidFill>
                <a:uFillTx/>
                <a:latin typeface="Constantia"/>
              </a:rPr>
              <a:t>Transport proteins</a:t>
            </a:r>
            <a:r>
              <a:rPr b="1" lang="en-US" sz="28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(channel or carrier proteins) help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hydrophilic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substance cros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TextBox 4"/>
          <p:cNvSpPr/>
          <p:nvPr/>
        </p:nvSpPr>
        <p:spPr>
          <a:xfrm>
            <a:off x="304920" y="2819520"/>
            <a:ext cx="4876560" cy="25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1) Provide hydrophilic channel or (2) loosely bind/carry molecule acros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g. ions, polar molecules (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, glucose)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1142640"/>
            <a:ext cx="8077320" cy="933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2060"/>
                </a:solidFill>
                <a:uFillTx/>
                <a:latin typeface="Calibri"/>
              </a:rPr>
              <a:t>Aquaporin</a:t>
            </a: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: channel protein that allows passage of H</a:t>
            </a:r>
            <a:r>
              <a:rPr b="0" lang="en-US" sz="3600" spc="-1" strike="noStrike" baseline="-25000">
                <a:solidFill>
                  <a:srgbClr val="04617b"/>
                </a:solidFill>
                <a:latin typeface="Calibri"/>
              </a:rPr>
              <a:t>2</a:t>
            </a: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O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3" name="Picture 4" descr="http://www.bionaid.us/aquaporin.jpg"/>
          <p:cNvPicPr/>
          <p:nvPr/>
        </p:nvPicPr>
        <p:blipFill>
          <a:blip r:embed="rId1"/>
          <a:stretch/>
        </p:blipFill>
        <p:spPr>
          <a:xfrm>
            <a:off x="4572000" y="2895480"/>
            <a:ext cx="3686040" cy="3114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6" descr="http://virtuallaboratory.colorado.edu/BioFun-Support/AllGraphics/Aquaporin%20and%20Water.jpg"/>
          <p:cNvPicPr/>
          <p:nvPr/>
        </p:nvPicPr>
        <p:blipFill>
          <a:blip r:embed="rId2"/>
          <a:stretch/>
        </p:blipFill>
        <p:spPr>
          <a:xfrm>
            <a:off x="1066680" y="2666880"/>
            <a:ext cx="251460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Title 2" descr=""/>
          <p:cNvPicPr/>
          <p:nvPr/>
        </p:nvPicPr>
        <p:blipFill>
          <a:blip r:embed="rId1"/>
          <a:stretch/>
        </p:blipFill>
        <p:spPr>
          <a:xfrm>
            <a:off x="176040" y="1195560"/>
            <a:ext cx="8596440" cy="9442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" descr="http://www.prism.gatech.edu/~gh19/b1510/gluctran.gif"/>
          <p:cNvPicPr/>
          <p:nvPr/>
        </p:nvPicPr>
        <p:blipFill>
          <a:blip r:embed="rId2"/>
          <a:stretch/>
        </p:blipFill>
        <p:spPr>
          <a:xfrm>
            <a:off x="609480" y="2590920"/>
            <a:ext cx="769644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Chapter 7: Warm-Up 3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8284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xplain membrane potential and how it affects the cell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n a U-tube, side A has 4 M glucose and 2 M NaCl. Side B has 2M glucose and 6 M NaCl. Initially, side A is ____ to side B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nd side B is ____ to side A.  What happens if the membrane is permeable to both solutes?  Only permeable to water and NaCl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ctive Transpor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6840" y="1934640"/>
            <a:ext cx="57913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quires </a:t>
            </a: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ENERGY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ATP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teins transport substances </a:t>
            </a:r>
            <a:r>
              <a:rPr b="1" i="1" lang="en-US" sz="2600" spc="-1" strike="noStrike">
                <a:solidFill>
                  <a:srgbClr val="002060"/>
                </a:solidFill>
                <a:latin typeface="Constantia"/>
              </a:rPr>
              <a:t>against</a:t>
            </a:r>
            <a:r>
              <a:rPr b="0" lang="en-US" sz="2600" spc="-1" strike="noStrike">
                <a:solidFill>
                  <a:srgbClr val="9900cc"/>
                </a:solidFill>
                <a:latin typeface="Constantia"/>
              </a:rPr>
              <a:t> </a:t>
            </a:r>
            <a:r>
              <a:rPr b="0" lang="en-US" sz="2600" spc="-1" strike="noStrike" u="sng">
                <a:solidFill>
                  <a:srgbClr val="069009"/>
                </a:solidFill>
                <a:uFillTx/>
                <a:latin typeface="Constantia"/>
              </a:rPr>
              <a:t>concentration gradient</a:t>
            </a:r>
            <a:r>
              <a:rPr b="0" lang="en-US" sz="2600" spc="-1" strike="noStrike">
                <a:solidFill>
                  <a:srgbClr val="069009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low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high conc.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g. Na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/K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pump, proton pum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9" name="Picture 4" descr="07_UN02Summary_C4-L.jpg"/>
          <p:cNvPicPr/>
          <p:nvPr/>
        </p:nvPicPr>
        <p:blipFill>
          <a:blip r:embed="rId1"/>
          <a:stretch/>
        </p:blipFill>
        <p:spPr>
          <a:xfrm>
            <a:off x="6400800" y="1600200"/>
            <a:ext cx="2217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3399"/>
                </a:solidFill>
                <a:uFillTx/>
                <a:latin typeface="Calibri"/>
              </a:rPr>
              <a:t>Electrogenic Pumps</a:t>
            </a: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: generate voltage across membrane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onstantia"/>
              </a:rPr>
              <a:t>Na</a:t>
            </a:r>
            <a:r>
              <a:rPr b="1" lang="en-US" sz="2800" spc="-1" strike="noStrike" u="sng" baseline="30000">
                <a:solidFill>
                  <a:srgbClr val="ff0000"/>
                </a:solidFill>
                <a:uFillTx/>
                <a:latin typeface="Constantia"/>
              </a:rPr>
              <a:t>+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onstantia"/>
              </a:rPr>
              <a:t>/K</a:t>
            </a:r>
            <a:r>
              <a:rPr b="1" lang="en-US" sz="2800" spc="-1" strike="noStrike" u="sng" baseline="30000">
                <a:solidFill>
                  <a:srgbClr val="ff0000"/>
                </a:solidFill>
                <a:uFillTx/>
                <a:latin typeface="Constantia"/>
              </a:rPr>
              <a:t>+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onstantia"/>
              </a:rPr>
              <a:t> Pump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97000" y="168084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onstantia"/>
              </a:rPr>
              <a:t>Proton Pump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6840" y="2335320"/>
            <a:ext cx="4040280" cy="38462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ump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nstanti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ut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nstanti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into cel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erve transmiss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797000" y="2335320"/>
            <a:ext cx="4041720" cy="38462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ush protons (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nstanti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 across membran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g. mitochondria (ATP production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5" name="Picture 6" descr="07_18SodiumPotassPump_6-L.jpg"/>
          <p:cNvPicPr/>
          <p:nvPr/>
        </p:nvPicPr>
        <p:blipFill>
          <a:blip r:embed="rId1"/>
          <a:stretch/>
        </p:blipFill>
        <p:spPr>
          <a:xfrm>
            <a:off x="152280" y="3429000"/>
            <a:ext cx="4502160" cy="32716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7" descr="07_20ProtonPump-L.jpg"/>
          <p:cNvPicPr/>
          <p:nvPr/>
        </p:nvPicPr>
        <p:blipFill>
          <a:blip r:embed="rId2"/>
          <a:stretch/>
        </p:blipFill>
        <p:spPr>
          <a:xfrm>
            <a:off x="5022720" y="4024440"/>
            <a:ext cx="389268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99"/>
                </a:solidFill>
                <a:uFillTx/>
                <a:latin typeface="Calibri"/>
              </a:rPr>
              <a:t>Cotransport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: membrane protein enables </a:t>
            </a:r>
            <a:r>
              <a:rPr b="0" lang="ja-JP" sz="3200" spc="-1" strike="noStrike">
                <a:solidFill>
                  <a:srgbClr val="04617b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downhill</a:t>
            </a:r>
            <a:r>
              <a:rPr b="0" lang="ja-JP" sz="3200" spc="-1" strike="noStrike">
                <a:solidFill>
                  <a:srgbClr val="04617b"/>
                </a:solidFill>
                <a:latin typeface="Calibri"/>
              </a:rPr>
              <a:t>”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 diffusion of one solute to drive </a:t>
            </a:r>
            <a:r>
              <a:rPr b="0" lang="ja-JP" sz="3200" spc="-1" strike="noStrike">
                <a:solidFill>
                  <a:srgbClr val="04617b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uphill</a:t>
            </a:r>
            <a:r>
              <a:rPr b="0" lang="ja-JP" sz="3200" spc="-1" strike="noStrike">
                <a:solidFill>
                  <a:srgbClr val="04617b"/>
                </a:solidFill>
                <a:latin typeface="Calibri"/>
              </a:rPr>
              <a:t>”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 transport of other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228240" y="1905120"/>
            <a:ext cx="8915400" cy="88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g. sucrose-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nstantia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cotransporter (sugar-loading in plants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9" name="Picture 8" descr="07_21Cotransport-L.jpg"/>
          <p:cNvPicPr/>
          <p:nvPr/>
        </p:nvPicPr>
        <p:blipFill>
          <a:blip r:embed="rId1"/>
          <a:stretch/>
        </p:blipFill>
        <p:spPr>
          <a:xfrm>
            <a:off x="1981080" y="2494080"/>
            <a:ext cx="563904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Passive vs. Active Transport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11276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ttle or no Energ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igh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low concentra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69009"/>
                </a:solidFill>
                <a:latin typeface="Constantia"/>
              </a:rPr>
              <a:t>DOW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the concentration gradi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g. diffusion, osmosis, facilitated diffusion (w/transport protei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952520" y="1112760"/>
            <a:ext cx="403884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quires Energy (ATP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ow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high concentra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onstantia"/>
              </a:rPr>
              <a:t>AGAINST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the concentration gradi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g. pumps, exo/endocyto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93" name="Right Arrow 2"/>
          <p:cNvGrpSpPr/>
          <p:nvPr/>
        </p:nvGrpSpPr>
        <p:grpSpPr>
          <a:xfrm>
            <a:off x="1523520" y="4992840"/>
            <a:ext cx="1712160" cy="1645920"/>
            <a:chOff x="1523520" y="4992840"/>
            <a:chExt cx="1712160" cy="1645920"/>
          </a:xfrm>
        </p:grpSpPr>
        <p:pic>
          <p:nvPicPr>
            <p:cNvPr id="294" name="Right Arrow 2" descr=""/>
            <p:cNvPicPr/>
            <p:nvPr/>
          </p:nvPicPr>
          <p:blipFill>
            <a:blip r:embed="rId1"/>
            <a:stretch/>
          </p:blipFill>
          <p:spPr>
            <a:xfrm>
              <a:off x="1523520" y="4992840"/>
              <a:ext cx="1712160" cy="164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 rot="2446800">
              <a:off x="1463760" y="5617800"/>
              <a:ext cx="1815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Right Arrow 9"/>
          <p:cNvGrpSpPr/>
          <p:nvPr/>
        </p:nvGrpSpPr>
        <p:grpSpPr>
          <a:xfrm>
            <a:off x="6237000" y="4968720"/>
            <a:ext cx="1607040" cy="1524240"/>
            <a:chOff x="6237000" y="4968720"/>
            <a:chExt cx="1607040" cy="1524240"/>
          </a:xfrm>
        </p:grpSpPr>
        <p:pic>
          <p:nvPicPr>
            <p:cNvPr id="297" name="Right Arrow 9" descr=""/>
            <p:cNvPicPr/>
            <p:nvPr/>
          </p:nvPicPr>
          <p:blipFill>
            <a:blip r:embed="rId2"/>
            <a:stretch/>
          </p:blipFill>
          <p:spPr>
            <a:xfrm>
              <a:off x="6237000" y="4968720"/>
              <a:ext cx="160704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 rot="19144800">
              <a:off x="6199200" y="5546520"/>
              <a:ext cx="16700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4" descr="07_19PassiveActiveTrans-L.jpg"/>
          <p:cNvPicPr/>
          <p:nvPr/>
        </p:nvPicPr>
        <p:blipFill>
          <a:blip r:embed="rId1"/>
          <a:stretch/>
        </p:blipFill>
        <p:spPr>
          <a:xfrm>
            <a:off x="533520" y="282600"/>
            <a:ext cx="8076960" cy="64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4617b"/>
                </a:solidFill>
                <a:latin typeface="Calibri"/>
              </a:rPr>
              <a:t>Bulk Transport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6840" y="17524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ransport of proteins, polysaccharides, large molecul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2" name="Picture 2" descr="http://4.bp.blogspot.com/_rBYpndaJ_ak/TLZLaM4OCQI/AAAAAAAAARU/8iax7xfb0F4/s1600/Endocytosis+and+Exocytosis.jpg"/>
          <p:cNvPicPr/>
          <p:nvPr/>
        </p:nvPicPr>
        <p:blipFill>
          <a:blip r:embed="rId1"/>
          <a:stretch/>
        </p:blipFill>
        <p:spPr>
          <a:xfrm>
            <a:off x="304920" y="2886120"/>
            <a:ext cx="4667040" cy="3209760"/>
          </a:xfrm>
          <a:prstGeom prst="rect">
            <a:avLst/>
          </a:prstGeom>
          <a:ln w="0">
            <a:noFill/>
          </a:ln>
        </p:spPr>
      </p:pic>
      <p:sp>
        <p:nvSpPr>
          <p:cNvPr id="303" name="TextBox 5"/>
          <p:cNvSpPr/>
          <p:nvPr/>
        </p:nvSpPr>
        <p:spPr>
          <a:xfrm>
            <a:off x="5029200" y="2895480"/>
            <a:ext cx="4191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Endocytos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 in macromolecules, form new vesicl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Box 6"/>
          <p:cNvSpPr/>
          <p:nvPr/>
        </p:nvSpPr>
        <p:spPr>
          <a:xfrm>
            <a:off x="5029200" y="4508640"/>
            <a:ext cx="3962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Exocytos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sicles fuse with cell membrane, expel conten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1" descr="07_22_Endocytosis-L.jpg"/>
          <p:cNvPicPr/>
          <p:nvPr/>
        </p:nvPicPr>
        <p:blipFill>
          <a:blip r:embed="rId1"/>
          <a:stretch/>
        </p:blipFill>
        <p:spPr>
          <a:xfrm>
            <a:off x="990720" y="1787400"/>
            <a:ext cx="7238880" cy="5070600"/>
          </a:xfrm>
          <a:prstGeom prst="rect">
            <a:avLst/>
          </a:prstGeom>
          <a:ln w="0">
            <a:noFill/>
          </a:ln>
        </p:spPr>
      </p:pic>
      <p:pic>
        <p:nvPicPr>
          <p:cNvPr id="306" name="Title 3" descr=""/>
          <p:cNvPicPr/>
          <p:nvPr/>
        </p:nvPicPr>
        <p:blipFill>
          <a:blip r:embed="rId2"/>
          <a:stretch/>
        </p:blipFill>
        <p:spPr>
          <a:xfrm>
            <a:off x="450720" y="73080"/>
            <a:ext cx="8321760" cy="847800"/>
          </a:xfrm>
          <a:prstGeom prst="rect">
            <a:avLst/>
          </a:prstGeom>
          <a:ln w="0">
            <a:noFill/>
          </a:ln>
        </p:spPr>
      </p:pic>
      <p:sp>
        <p:nvSpPr>
          <p:cNvPr id="307" name="TextBox 4"/>
          <p:cNvSpPr/>
          <p:nvPr/>
        </p:nvSpPr>
        <p:spPr>
          <a:xfrm>
            <a:off x="152280" y="92232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hagocytosi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ular eating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soli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Box 5"/>
          <p:cNvSpPr/>
          <p:nvPr/>
        </p:nvSpPr>
        <p:spPr>
          <a:xfrm>
            <a:off x="3429000" y="92232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inocytosi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ular drinking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flui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Box 6"/>
          <p:cNvSpPr/>
          <p:nvPr/>
        </p:nvSpPr>
        <p:spPr>
          <a:xfrm>
            <a:off x="5867280" y="498312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ceptor-Mediated Endocytosi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ands bind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fic recepto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cell surfa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2" descr=""/>
          <p:cNvPicPr/>
          <p:nvPr/>
        </p:nvPicPr>
        <p:blipFill>
          <a:blip r:embed="rId1"/>
          <a:stretch/>
        </p:blipFill>
        <p:spPr>
          <a:xfrm>
            <a:off x="55440" y="1311120"/>
            <a:ext cx="8253360" cy="14385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Membrane Transport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hapter 7: Warm-Up 4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ide A in a U tube has 5M sucrose and 3 M glucose. Side B has 2 M sucrose and 1 M glucose.  The membrane is permeable to glucose and water  only. What happens to each side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hapter 7: Warm-Up 5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ide A in a U tube has 3 M sucrose and 1 M glucose. Side B has 1 M sucrose and 3 M glucose.  The membrane is permeable to glucose and water  only. What happens to each side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Title 3" descr=""/>
          <p:cNvPicPr/>
          <p:nvPr/>
        </p:nvPicPr>
        <p:blipFill>
          <a:blip r:embed="rId1"/>
          <a:stretch/>
        </p:blipFill>
        <p:spPr>
          <a:xfrm>
            <a:off x="530280" y="-85680"/>
            <a:ext cx="8308800" cy="19080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533160" y="178128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Membrane Structure and Function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4" name="Picture 5" descr="07_05PlasmaMembrane-L.jpg"/>
          <p:cNvPicPr/>
          <p:nvPr/>
        </p:nvPicPr>
        <p:blipFill>
          <a:blip r:embed="rId2"/>
          <a:stretch/>
        </p:blipFill>
        <p:spPr>
          <a:xfrm>
            <a:off x="304920" y="2971800"/>
            <a:ext cx="5638680" cy="36273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at You Must Know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360" indent="-407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hy membranes are selectively permeabl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68360" indent="-407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role of phospholipids, proteins, and carbohydrates in membran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68360" indent="-407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How water will move if a cell is placed in an isotonic, hypertonic, or hypotonic solution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68360" indent="-407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How electrochemical gradients are formed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4617b"/>
                </a:solidFill>
                <a:latin typeface="Calibri"/>
              </a:rPr>
              <a:t>Cell Membrane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lasma membrane is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Constantia"/>
              </a:rPr>
              <a:t>selectively permeab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llows some substances to cross more easily than othe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Fluid Mosaic Mod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3399"/>
                </a:solidFill>
                <a:uFillTx/>
                <a:latin typeface="Constantia"/>
              </a:rPr>
              <a:t>Fluid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membrane held together by weak interac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3399"/>
                </a:solidFill>
                <a:uFillTx/>
                <a:latin typeface="Constantia"/>
              </a:rPr>
              <a:t>Mosaic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phospholipids, proteins, carb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4617b"/>
                </a:solidFill>
                <a:latin typeface="Calibri"/>
              </a:rPr>
              <a:t>Early membrane model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92240"/>
            <a:ext cx="510552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1935) Davson/Danielli –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Sandwich mod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hospholipid bilayer between 2 protein laye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Problem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varying chemical composition of membrane, hydrophobic protein par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37" descr=""/>
          <p:cNvPicPr/>
          <p:nvPr/>
        </p:nvPicPr>
        <p:blipFill>
          <a:blip r:embed="rId1"/>
          <a:srcRect l="0" t="0" r="65656" b="0"/>
          <a:stretch/>
        </p:blipFill>
        <p:spPr>
          <a:xfrm>
            <a:off x="5486400" y="1905120"/>
            <a:ext cx="304812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5T02:10:47Z</dcterms:created>
  <dc:creator>David title</dc:creator>
  <dc:description/>
  <dc:language>en-US</dc:language>
  <cp:lastModifiedBy>Chris Nancy Chou</cp:lastModifiedBy>
  <dcterms:modified xsi:type="dcterms:W3CDTF">2012-09-17T04:51:26Z</dcterms:modified>
  <cp:revision>109</cp:revision>
  <dc:subject/>
  <dc:title>Plants - Reproduction</dc:title>
</cp:coreProperties>
</file>